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518-C63F-41B1-BF78-C698BDCE7C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oep: Jaring Boersma, Pascal Beaujean, Ruud Holtkamp en Sjoerd van Fes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twerp van een huis, welke geheel in zijn eigen energiebehoefte voorziet, zonder dat bewoners last hebben van het systeem, dwz de bewoners moeten altijd energie tot hun beschikking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bruik maken van duurzame energiebronnen in plaats van oprakende fosiele brandstoff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lv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probleemstell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elke mate kan een Nederlands huis voorzien in zijn eigen energiebehoefte met behulp van duurzame energiebronnen en met het oog op de energiebehoefte van de gebrui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chnologisch: Kernf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o-grafisch: Waterkracht, oceaanenergie, getijden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atschappelijk: Bio-massa, wind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energie: Zonneboilers en photovoltaische c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randstofcellen in combinatie met H2-ops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zorgt voor de huisverwarming en levert el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hotovoltaische cellen leveren ele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iler levert warm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lektriciteit wordt via regelaar in brandstofcel-unit op het huisnet gez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verschotten aan elektriciteit worden via elektrolyse omgezet in waterstof, tekorten worden via brandstofcel omgezet in elektricite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ventuele naverwarming door elektrische boiler, geplaatst na zonne-bo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rie systemen gekopp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collectoren en cellen op het da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en Brandstofcel-unit onder de gr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impele, eenvoudige berekening, waarbij de aardwarmte buiten beschouwing is gelaten ivm complexite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panelen oppervlak van 24 vierkante meter ruimschoots voldoende voor de ele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zorgt voor de ver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grotere besparingen van energie is 10,7 vierkante meter voldo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871-EEC7-43B8-98A9-B8BC4189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FB3-8524-4C10-AF62-F588CBE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30D-5F98-4C7D-BE91-768A83FB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910-B315-4EFD-A388-9D0A749F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CAE-D2BC-4550-88B9-0DBA90D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435-85A4-4321-9930-26BFB8F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391-936A-40C6-B22D-A83EBD26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9E8-D18E-42FB-B6D4-FEEEFEE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5DF-8C61-4C97-82C0-0C423B2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DAF-434A-410C-90B6-ABA4125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1B6-FB93-4FC5-82E4-DFD4868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EAA-BABE-4D18-A8C3-EFA9CD2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DD1-37B5-43C5-BE09-BBB6731B80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A13-656D-4FA0-8A35-CD68F9BA6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urzame energie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gebruiksgericht ontwer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een huis in Ned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D55-3ECF-4380-B4AA-D4F5C5AF61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B550E-D551-4400-B424-C4EF68B96F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anbevel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sche studie naar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doorrekening van het sy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E68-7FFA-4A13-93C4-ABE14C1B88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A2744-8BA4-4572-B5E3-B5AB7B1BC7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ikkeling van een huis dat gebruikt maakt van alternatieve energiebronnen, waarbij volledig in de behoeften van de gebruiker wordt voorz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FD-F61F-4568-8249-A4D43012D0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40C8C-76F8-4E35-8F7A-95B1AFDE8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ems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e duurzame energiebronnen zijn het meest geschikt voor toepassing in en rond het huis in Neder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welke manier moeten deze energiebronnen met het oog op de gebruiker geïmplementeerd wo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 duurzame energiecapaciteit van een huis toereikend om in zijn eigen energiebehoefte te voorzi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002-0A50-4F5D-B9C9-50454C2DC4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E2D4-7BDA-486F-88B0-DDE8EC681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uze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f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tschappelijk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180-C042-45F3-8AEE-A3908AAEAA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FC9ED-B0D0-49AC-9496-BD38FE1EF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epasbare duurzame energie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nne-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ndstofc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7AB-B3B6-4AB6-A114-ED6044217E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586DA-237C-41FD-B33B-46BC1E7A22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95280" y="2057400"/>
            <a:ext cx="6476760" cy="3885840"/>
            <a:chOff x="1295280" y="2057400"/>
            <a:chExt cx="6476760" cy="3885840"/>
          </a:xfrm>
        </p:grpSpPr>
        <p:sp>
          <p:nvSpPr>
            <p:cNvPr id="61" name=""/>
            <p:cNvSpPr/>
            <p:nvPr/>
          </p:nvSpPr>
          <p:spPr>
            <a:xfrm>
              <a:off x="5967360" y="5139360"/>
              <a:ext cx="318240" cy="2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92160" y="4603320"/>
              <a:ext cx="3182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1720" y="339732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lektricit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1720" y="272736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lektricit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9320" y="2459160"/>
              <a:ext cx="477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295280" y="2325240"/>
              <a:ext cx="1486440" cy="937800"/>
              <a:chOff x="1295280" y="2325240"/>
              <a:chExt cx="1486440" cy="937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32524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1120" y="2593080"/>
                <a:ext cx="11678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ardwarm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569320" y="3129480"/>
              <a:ext cx="13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43720" y="205740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uisverwa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295280" y="3665520"/>
              <a:ext cx="1486440" cy="937800"/>
              <a:chOff x="1295280" y="3665520"/>
              <a:chExt cx="1486440" cy="937800"/>
            </a:xfrm>
          </p:grpSpPr>
          <p:sp>
            <p:nvSpPr>
              <p:cNvPr id="72" name=""/>
              <p:cNvSpPr/>
              <p:nvPr/>
            </p:nvSpPr>
            <p:spPr>
              <a:xfrm>
                <a:off x="1295280" y="366552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120" y="3933360"/>
                <a:ext cx="1380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Photovoltaïsch cell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569320" y="3799440"/>
              <a:ext cx="13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737520" y="2995200"/>
              <a:ext cx="1486440" cy="937800"/>
              <a:chOff x="3737520" y="2995200"/>
              <a:chExt cx="1486440" cy="937800"/>
            </a:xfrm>
          </p:grpSpPr>
          <p:sp>
            <p:nvSpPr>
              <p:cNvPr id="76" name=""/>
              <p:cNvSpPr/>
              <p:nvPr/>
            </p:nvSpPr>
            <p:spPr>
              <a:xfrm>
                <a:off x="3737520" y="299520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43360" y="3263040"/>
                <a:ext cx="127404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andstofc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 opslag 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223960" y="3397320"/>
              <a:ext cx="6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280" y="5005440"/>
              <a:ext cx="1486440" cy="93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5139360"/>
              <a:ext cx="13802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il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onnec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49560" y="473760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arm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9320" y="5139360"/>
              <a:ext cx="37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4412880" y="3469320"/>
              <a:ext cx="133920" cy="1061640"/>
            </a:xfrm>
            <a:custGeom>
              <a:avLst/>
              <a:gdLst>
                <a:gd name="textAreaLeft" fmla="*/ 0 w 133920"/>
                <a:gd name="textAreaRight" fmla="*/ 48240 w 133920"/>
                <a:gd name="textAreaTop" fmla="*/ 27360 h 1061640"/>
                <a:gd name="textAreaBottom" fmla="*/ 1034280 h 10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1320" y="4067280"/>
              <a:ext cx="180504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gelt de elektriciteitsvoorzi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1160" y="3129480"/>
              <a:ext cx="127404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utonoom elektriciteits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5960" y="5005440"/>
              <a:ext cx="212040" cy="26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92160" y="3665520"/>
              <a:ext cx="0" cy="13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54960" y="4067280"/>
              <a:ext cx="11678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averwar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98360" y="51393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47600" y="2191320"/>
              <a:ext cx="424440" cy="321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35200" y="339732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037-8BFA-42B1-873F-8E7392AA0E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B5B5A-B36F-46BE-A6A0-6C5218AEBF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 gaat dit er uitz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0" y="1600200"/>
          <a:ext cx="4648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648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8080" y="50054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44E-7A38-4363-BA4C-139D830DA8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7BBD6-8D11-411E-BD8E-6E5A2595E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oefte vs. Capac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hoefte van gemiddeld nieuwbouw hu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as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8,0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lektriciteit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7,2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paciteit van gemiddeld nieuwbouw hu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rdwarmte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nne-panelen (25 m</a:t>
            </a:r>
            <a:r>
              <a:rPr b="0" lang="nl-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33,0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7E0-3350-4CD5-9815-1A2593AE88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22E8E-A70B-4D09-AFDC-2DDD4736E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dconclu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is mogelijk om een huis te ontwerpen dat volledig in zijn eigen energiebehoefte voorziet, terwijl de behoefte van de bewoners bevredigd blij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dit huis wordt gebruik gemaakt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nne-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stofcel en H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ops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D56-1125-4C11-92AD-DDC9EC8C6D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14CAC-F170-49BE-8252-5F632ED59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9:43:37Z</dcterms:created>
  <dc:creator>Valentijn</dc:creator>
  <dc:description/>
  <dc:language>en-US</dc:language>
  <cp:lastModifiedBy>Valentijn</cp:lastModifiedBy>
  <cp:lastPrinted>1999-02-25T11:08:10Z</cp:lastPrinted>
  <dcterms:modified xsi:type="dcterms:W3CDTF">1999-02-25T11:26:39Z</dcterms:modified>
  <cp:revision>2</cp:revision>
  <dc:subject/>
  <dc:title>Duurzame energiebronnen</dc:title>
</cp:coreProperties>
</file>